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C35B-B195-4DC0-B022-F494056E8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D036-B359-4577-80F5-BBC83915B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A042-394B-4F5C-AB59-246E91A4E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7B8F-E733-43AC-A34B-142AD13E5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048D-CCF4-40B9-AC91-2E544E1E4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9BB3-C5E9-4C8C-B480-E953CE72A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A506-2560-40AD-B008-8300BE217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D206-CA90-40AF-A5D5-4C0861BF0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E63E-A514-4425-A5EF-70443E8B3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DE98-D8D8-4295-A926-2C0668ED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F0CD-96C1-4A5E-A7EE-63DE02D5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8072-2177-40BC-AE94-18CB7AD5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35D22-E78C-40F0-BFA6-29EE5482B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ashot  feelings  </a:t>
            </a:r>
            <a:br>
              <a:rPr sz="4400"/>
            </a:b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איך  אתה   מרגיש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90720" y="2514600"/>
            <a:ext cx="7467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000" spc="-1" strike="noStrike">
                <a:solidFill>
                  <a:srgbClr val="000000"/>
                </a:solidFill>
                <a:latin typeface="Arial"/>
              </a:rPr>
              <a:t>מתרגש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514600" y="2990880"/>
            <a:ext cx="297180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_ __   __ __ __ __ __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>
                <a:solidFill>
                  <a:srgbClr val="000000"/>
                </a:solidFill>
                <a:latin typeface="Arial"/>
              </a:rPr>
              <a:t>מלא   תקווה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809880" y="3048120"/>
            <a:ext cx="3238560" cy="32241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371600" y="3505320"/>
            <a:ext cx="217800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לאונרדו  __ __ __ __ __ בבר רפאלי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000000"/>
                </a:solidFill>
                <a:latin typeface="Arial"/>
              </a:rPr>
              <a:t>מאוהב</a:t>
            </a:r>
            <a:r>
              <a:rPr b="1" lang="he-IL" sz="5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600360" y="1981080"/>
            <a:ext cx="2743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הילדה  __ __ __ __ 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רגוע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רגועה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209680" y="1752480"/>
            <a:ext cx="45720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he-IL" sz="7200" spc="-1" strike="noStrike">
                <a:solidFill>
                  <a:srgbClr val="000000"/>
                </a:solidFill>
                <a:latin typeface="Arial"/>
              </a:rPr>
              <a:t>עמוס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US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806560" y="1600200"/>
            <a:ext cx="41925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e-IL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e-IL" sz="7200" spc="-1" strike="noStrike">
                <a:solidFill>
                  <a:srgbClr val="000000"/>
                </a:solidFill>
                <a:latin typeface="Arial"/>
              </a:rPr>
              <a:t>לחוץ</a:t>
            </a:r>
            <a:r>
              <a:rPr b="1" lang="he-IL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CHUTZ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371600" y="320040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835520" y="2514600"/>
            <a:ext cx="30924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e-IL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e-IL" sz="8000" spc="-1" strike="noStrike">
                <a:solidFill>
                  <a:srgbClr val="000000"/>
                </a:solidFill>
                <a:latin typeface="Arial"/>
              </a:rPr>
              <a:t>תשוש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SHUSH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138480" y="1600200"/>
            <a:ext cx="2865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יזהר  ( חבר)    תשוש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255276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ילד    תשוש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90720" y="2793960"/>
            <a:ext cx="453384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yuash 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יואש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per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981080" y="2133720"/>
            <a:ext cx="39182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153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000000"/>
                </a:solidFill>
                <a:latin typeface="Arial"/>
              </a:rPr>
              <a:t>שמח</a:t>
            </a:r>
            <a:r>
              <a:rPr b="1" lang="he-IL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he-IL" sz="5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MEACH 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438280" y="2590920"/>
            <a:ext cx="529596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zbani -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עצבני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6629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rvou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362320" y="3238560"/>
            <a:ext cx="222876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bulbal 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בולבל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570040" y="2282760"/>
            <a:ext cx="2814840" cy="39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אדיש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ffer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438280" y="2938320"/>
            <a:ext cx="44960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es  -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כועס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857760" y="2714760"/>
            <a:ext cx="300024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400" spc="-1" strike="noStrike">
                <a:solidFill>
                  <a:srgbClr val="000000"/>
                </a:solidFill>
                <a:latin typeface="Arial"/>
              </a:rPr>
              <a:t>לחוץ</a:t>
            </a:r>
            <a:r>
              <a:rPr b="0" lang="he-IL" sz="5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505320" y="1981080"/>
            <a:ext cx="25765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עמוס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806560" y="1600200"/>
            <a:ext cx="41925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_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>
                <a:solidFill>
                  <a:srgbClr val="000000"/>
                </a:solidFill>
                <a:latin typeface="Arial"/>
              </a:rPr>
              <a:t>עצבני</a:t>
            </a:r>
            <a:r>
              <a:rPr b="1" lang="he-IL" sz="6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362320" y="2894040"/>
            <a:ext cx="320040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כועס</a:t>
            </a: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429000" y="2895480"/>
            <a:ext cx="300024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__ 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>
                <a:solidFill>
                  <a:srgbClr val="000000"/>
                </a:solidFill>
                <a:latin typeface="Arial"/>
              </a:rPr>
              <a:t>מבולבל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9880" y="2743200"/>
            <a:ext cx="2814840" cy="39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תשוש</a:t>
            </a: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209680" y="2895480"/>
            <a:ext cx="5276880" cy="833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tragesh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תרגש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505320" y="1649520"/>
            <a:ext cx="396216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__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מיואש</a:t>
            </a: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600200" y="3200400"/>
            <a:ext cx="3033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000" spc="-1" strike="noStrike">
                <a:solidFill>
                  <a:srgbClr val="000000"/>
                </a:solidFill>
                <a:latin typeface="Arial"/>
              </a:rPr>
              <a:t>עצוב</a:t>
            </a:r>
            <a:r>
              <a:rPr b="1" lang="he-IL" sz="8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752480" y="297180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אני  עצוב  כש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 AM  SAD  WHEN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286000" y="3505320"/>
            <a:ext cx="232416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אני  שמח  כש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M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PPY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N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3924360" cy="26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אני  __ __ __ __ __כש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400" spc="-1" strike="noStrike">
                <a:solidFill>
                  <a:srgbClr val="000000"/>
                </a:solidFill>
                <a:latin typeface="Arial"/>
              </a:rPr>
              <a:t>מיואש</a:t>
            </a:r>
            <a:r>
              <a:rPr b="0" lang="he-IL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perat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124080" y="1828800"/>
            <a:ext cx="27799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אני __ __ __ __  כש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תשוש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657600" y="2590920"/>
            <a:ext cx="228600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אני  __ __ __ __ __ __  כש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מבולבל</a:t>
            </a: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191120" y="2895480"/>
            <a:ext cx="2327040" cy="32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אני  __ __ __ __ כש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עמוס</a:t>
            </a: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200400" y="3048120"/>
            <a:ext cx="30891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אני  __ __ __ __  כש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לחוץ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505320" y="1447920"/>
            <a:ext cx="27637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אני  __ __ __ __  כש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תשוש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809880" y="1523880"/>
            <a:ext cx="228600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le   TIKVA 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לא  תקוו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pefu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90720" y="2284560"/>
            <a:ext cx="323856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כשאני  מאוהב   אני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....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800600" y="1371600"/>
            <a:ext cx="2708280" cy="36115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2286000" y="1371600"/>
            <a:ext cx="213372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     __ __ __ _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שמח                      -   עצו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09480" y="251460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609480" y="251460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3733920" y="2514600"/>
            <a:ext cx="361944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    __ __ __ __ 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רגוע  (ה)                         עצבני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2590560" cy="23464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3581280" y="2438280"/>
            <a:ext cx="259092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_______   -  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מלא   תקווה                מיואש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962520" y="2514600"/>
            <a:ext cx="2095560" cy="33526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685800" y="2743200"/>
            <a:ext cx="25909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לא  תקוו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334332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אוהב (מאוהבים)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UHAV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95280" y="2286000"/>
            <a:ext cx="2190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לאונרדו  _ __ __ __ __ בבר  רפאלי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288936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רגוע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AGUA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הילדה   במים  רגועה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905120" y="3048120"/>
            <a:ext cx="4114800" cy="30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 __ _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000000"/>
                </a:solidFill>
                <a:latin typeface="Arial"/>
              </a:rPr>
              <a:t>שמח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438280" y="2590920"/>
            <a:ext cx="529596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7T18:37:55Z</dcterms:created>
  <dc:creator>Preferred Customer</dc:creator>
  <dc:description/>
  <dc:language>en-US</dc:language>
  <cp:lastModifiedBy>aschlezinger</cp:lastModifiedBy>
  <dcterms:modified xsi:type="dcterms:W3CDTF">2010-11-04T20:56:27Z</dcterms:modified>
  <cp:revision>3</cp:revision>
  <dc:subject/>
  <dc:title>Regashot  feelings   איך  אתה   מרגיש  ? </dc:title>
</cp:coreProperties>
</file>